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0CAB-E246-479B-9A92-082BA8A72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E174-25BA-4641-81FE-D477617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6FCCA-2D39-4446-AFA2-3609C89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2158C-08B3-446D-AB19-8A3F7516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C0CD6-88D6-4B3E-A7DA-66EDACE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81E35-AEBC-42C1-90A6-5F7FA71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32933-D89F-4A83-AAC0-CCAB048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83563-FEF1-4E45-9718-E834533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3CCDE-BCE9-406D-8A71-03AACD20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CDCA0-D1C4-4E86-94DD-54AEBB5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068C3-494C-47BB-B008-EB20796C2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D7D882-54F5-4135-983D-9BF8762E4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5216-3960-454F-860F-0812F90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06B8F-01A5-4CD3-AD27-64B52D5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EC791-9968-407D-ADAC-0DC4D70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BED65-6D64-42FD-B5F2-C98E514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DDA47-2753-4307-8D6E-4F553BD1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B446F3-2AE1-4D6D-8CB1-FF22F0C0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5C3C9E-1B47-4D82-A90C-F6C2CC9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99832-FB7E-4A47-8EB0-3F6A863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CC0F2-3066-4A4E-9CD1-039A6AA5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1C6113-CAB5-4EC5-AC00-560EBA8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B49C6D-7853-4518-9C38-E44BAE4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4E39-6CC2-4C6E-B88D-EB00CCA6E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58355-090B-4FBD-BD89-7DD5DC6E1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8582-CBA7-4EDC-899D-EB2C14BBD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22AE-8420-4E7E-A793-E7D6E426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4F3A-93C8-4976-96D3-A896956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BD16-5F24-4EEB-85DC-6DEA4B98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ED6F-AEA7-4F5E-9EBC-81956DEB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6804-A4B5-49A7-A804-B3FC0499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02B1-231C-4554-99EB-193584A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A1060-B76C-49CC-94A1-A3F8A6D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02F84-0708-4BB5-9049-5C0A061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7E8C3-5946-40CB-A972-85D9E8B9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F8C49-461D-4BD7-8F7E-176C7A2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0811-92F3-4421-B237-CE12216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8CE7-DD81-4E8E-A1EB-573AC5512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BCFE2C-17DB-4E3B-82AC-5EE9F9A8C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6EC39-64C4-407A-9C96-AA90B32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BD8F7B-D236-4D9D-B6A2-515EF55D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1A2E5B-13E1-4AA6-B5C9-139F89C6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E9944-3047-45D7-9077-6B52B65B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CCB6E-9921-43FE-BBF6-82498309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B2103-16D0-4CFE-A8AA-3BDE76C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318F-C247-42EC-A081-78120987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81655-6B04-4B4B-A80C-DC2F54F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B3A22-C8B5-4562-84B6-1E128C7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A3AF5-4BA2-4775-8F66-4E8F33E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7698F-0779-4941-AD55-9F9AE52F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2C63D-9B64-4882-8B00-3A346C34A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1CD7A-F675-48D3-AE96-24C599F9D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CE40F-DDA5-4492-8D68-71549741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6EC14-0D99-42D3-BE5D-402CD8ED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A5986-EBF8-4991-8BEA-59CD51E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E3926-CFDF-4ED1-83A1-898A8CF9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C155-A034-4A8C-AD2B-6D90052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D2F02-CD1D-4246-897B-28D7144A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5B578-203A-40DB-8100-1710F40B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A8D36-148A-46B9-AE7B-209342A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F3D77-9D9C-436F-BB3F-8BD6539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2C52E-C022-4F90-A627-EA54658F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53D6A-FFA5-4FE9-827A-AB332DC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6B0F8-492D-4C79-A045-E90D18637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1459A-168A-4680-9206-4860C0A99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B5DD6-F91F-4DB7-8A69-71316E5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90649-09B7-42BE-B532-76261D0E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16D83-AB33-46BE-B98E-F71E821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C8388-1B89-42EA-9602-60CC072F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A0DF7-CF4B-4B87-8A63-E059E02D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C4022-9587-445F-81DB-3D3672A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B2917-981C-4116-A044-19E54A2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20C08-E8BA-4023-8430-D904562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22186-0B8F-4AA7-BFFE-34EDE160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C2CDD-AF25-4293-A33D-94A52AF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7EBB3-E37E-4B97-BB3D-AA1BC9E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5DD86-0178-4253-956C-3DBE856A9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095E-F62F-41C0-A53C-AA6B5FD0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9589F-E7BE-4B47-AB80-4BEB781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4A4A3-5277-4D90-A485-F57623AC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799CD-DE08-4173-B1A2-7278537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FB68C-FC31-458A-AC87-6782EC9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A8D6E-7324-4E6B-901A-0D31490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94F2F-6712-4977-9F55-CA89DFA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D8310-DE6A-405E-AA7A-BC77FED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53A38-16B3-4CBE-9517-E595064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12664-5620-40E8-81E8-C12D965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AD34-87E5-4690-A9B3-8DA53379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F8352-30AB-4582-96DD-E4A23D80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9847-72EA-4E5B-912B-8C177535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7FC4-D647-46AD-B11E-B0EEB3A9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CF476-D3D0-4DEB-8283-0E726CF4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34851-4E97-4862-8714-5C52D006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53176-D46E-494C-8E53-ABBB125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EA41C-01EF-4C40-BD2C-6873FA4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C0830-E97B-4A25-8D88-E852D23C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2D9A-EED8-4DCF-B3C3-CAA54E7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1A513-1D6D-4AAF-A1F3-B731B40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3C797-6E73-4C1B-B625-391489A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C156C-128F-4F79-B991-54312F8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A73A7-39BE-47E5-BFBE-53F2D3BA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DFF8D-228A-4F69-8834-C8CE188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4C44-7653-4005-B956-AC522352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3303-CA7C-4CC7-807E-B3358816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664F4-DC21-4D7A-BD39-7688B934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E13CC-32F9-498D-9422-7EDE0A16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D200F-760F-42AD-B39F-32FE9FD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2D560-1E2E-4B7E-A8CC-C15E002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B4E7A-BB65-4BF6-B246-A859DA1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6488B-BDE3-4CE9-8321-3F0D8E0F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4930D-1186-423F-B9A5-5155660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0596-9E86-4A9E-9414-20206DDC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92D1-34BD-4A1A-A02E-EA2A43C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4237B-6D2D-4681-B165-8AC8C23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A9055-DED9-4878-810E-CE3CC40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6BD4C-2F17-4AE4-B926-F4E7B8A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1EAF8-4CC7-4A7B-A7B8-83DC009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F0D0C-5244-4189-B47F-92578517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86A05-EF64-4BE0-B45E-A503D2C2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7E3C0-C3C3-4753-9CA3-D051082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15DC7-0F8E-4889-8981-AF8F8898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A2967-0696-48AC-9AF2-126DB1D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31F5B-D6D6-4D71-A0A1-E0FC606E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D64B0-12B0-4957-904B-051149D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7F34D-5B3C-4748-B480-2C2FCBD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AA116-B97E-4046-97F5-7189254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4F82B-C2EB-4DC4-9A26-925BE98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D98B3-3A58-452B-BD75-776CE87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6D151-DA07-410C-A8CC-E9473F1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0708B-9491-4D8A-BFD3-9A4B8DD8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FF3FD-6EFE-4490-862B-AD7F8E29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0945C-AB90-4EA2-856F-2EF38877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304FE-FD78-4215-A2D4-043DAB7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96046-642D-4C36-8418-1B0510A4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0D70F-794A-43A2-9FAB-1455D281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234A6-80EE-4B23-BDE2-A59EAED5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33BA5-D43C-4EB3-B82C-83B8B0D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57234-E3ED-4B55-83A7-5804F0C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17D00-C55D-4695-AE9A-9C12C4E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5CD19-40E8-447C-8D2D-B77D1F3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2E6A2-29B4-4DD5-9198-31E40B4D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CE238-3868-4506-BEE2-305D6BF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B2BFA-F8F7-4ACC-B0F9-60ED7780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1D4FD-D36F-4ADE-A51B-BB570A7E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1BB1A-0F29-4421-8BC4-2D79E600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2516E-8BBA-4088-9434-2FC3A62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B6939-2DF5-4937-A2E8-C0FB332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4C433-F936-4455-AC67-2C4366B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B2EAF-659B-4866-A63F-5F4DF17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AEC07-983F-4541-88A2-32EEB52D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04592-D309-48C7-93C5-88CD00D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80EFE-A110-4B70-9B69-1A8C09D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72A23-AF3F-40AE-881D-A95E6D9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435E9-5AB6-40FC-9F0D-1411D7B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11252-E8FD-4A40-8B40-0CC51B7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8B4FE-CB7F-4BB5-AD15-91DBED05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4AB0-2E5A-4D80-9B6B-77D62D8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AD24B-5A33-49C7-B553-A606A758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BC4AE-EF66-4257-BC8B-525A034A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09B98-8137-43A4-8C04-846BF32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6DA56-E14B-4065-8A38-9937DF9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CBAD7-E1BB-4417-B258-A87E8996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A924D-CE83-4D42-8648-2C34027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49107-4F4F-4B1F-88A5-CA04CBE3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16CD4-BDF7-4FCC-B7D9-EF371CC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0801C-A5C4-4C93-B75E-4DAAACA7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916B3-9364-481E-B274-17E846A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6795A-69BE-4BF8-9B7C-49163FE2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DE904-076C-418B-9AFF-15F793BF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C95F1-E216-47EE-8481-9310C91B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6EF64-7589-4B18-AE0B-CCBD29D5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4B519-F6D2-440A-A4EE-D188B57A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6C3B3-2482-4E9E-A4D6-F0454327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015B0-F2CA-4063-A83B-D74B8DD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C92F0-1A8D-4C2C-B7BF-BF7455FC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926EF-AA02-4E9F-BFD2-4144E74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C84CD-AF54-47EA-9D2B-A610824C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60A19-4476-42F1-91A2-D97777B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D3BB0-990A-44B3-8989-C7F05368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E4352-8C70-4DB6-B77F-B5B3D0D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62E38-91BD-45F4-A297-4BBE14F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E72D1-1FBC-42F6-9A35-CB3B0D4C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9E5E8-0601-405D-8356-B81FDBB5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FA299-4676-4324-96E9-862C4846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C1FDB-C61D-435E-96F7-FBE47F3E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3FE3F-05A4-48B1-89A6-6683897B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56565-8D68-4E31-AFF7-594438B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148FF-D1D6-4D34-9874-81AD0F7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15481-0AB5-4704-B3A3-F5B4C85F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E7DC4-D7A6-4160-AC7E-E68DBE8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0EE4C-A8C1-4605-9296-2B8327E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0E9BB-E616-4E61-BA3E-CE9D214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C5196-8186-4F4D-9B4A-ABD6BBB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6F24B-E569-43A5-A665-37F3F24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5DD59-BDAE-4305-8E93-EBADDE3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211FF-7A8F-4F5A-828F-FF22345B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36F84F-708B-4DDF-B10F-DD8BC20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D6D0D-1AE7-493A-8D2A-DC9619F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314C8-8D80-4BE3-8A82-7E4ECFE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2DD8A-D515-47CC-8DBA-F5418CE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4F940-7D69-4FC0-991C-5783177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DFAB0-E707-4551-8FB4-DCB5790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11965-0A5E-4461-89BD-5518CC3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23D57-F0AE-4233-95FC-FD94D3F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F4E814-014B-4338-AA1C-3CF0FB55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63B14-372E-4D9F-8704-2ECBEDD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F5FD9-EB88-4B10-8458-4786C0E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38B1F-FD42-405D-9F99-89EF3CC4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F52E5-97CE-49BF-BAAC-375E8E85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CC252-CAD2-427F-A8D2-B37B9EA3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DCF3C-EEDF-497C-B057-F39DF0D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2FBCF-B6F6-4019-977A-DD9368C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3B5E0-8987-40EA-9CFE-7301A35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042B6-D227-4E00-9ED0-E6558447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30896-80EF-4A11-9166-C764684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2FD46-BF12-40CE-A188-FDABB07C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8E6A7-52CD-4248-AFA6-CBDE33C3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F6A90-2F5F-497D-906F-3F73986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0758C-C55E-4097-B912-9DFFBFD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2A35A-ACB3-4ADA-A669-28EC3C3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A399E-0A65-4B45-8CE5-D0AC081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B2BEE-A3F7-42A4-A7A7-F14E89C5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FF45-A79D-4E8E-96D4-C8060E5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AD1C-C043-447F-8DCA-D3E994D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6A23C-E030-4B4E-8060-3FE6096C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CDAB1-0715-476E-9647-83DD78E5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159C7-3A18-4365-B13D-C0FD1EB7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CF39B-10BA-4E49-AC89-3269309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037678-4D9E-49D8-9C49-9A392B35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BBC4A-A4BE-4539-9623-DAF52915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9A4673-05F0-4462-AE26-B6F066B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9089B-8258-4F23-A176-B957CE1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5C619-6796-4A63-A070-9201CC1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DE4DC-B305-4506-B332-509B9D6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9C03A-4EBA-41D1-8C2A-8193671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5A3B8-A70B-471F-940E-9B6BFF1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340CE5-0755-464D-95D3-2A3205BE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359CF-4D46-46A3-AAED-FA53CB73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8DCD9-A397-4B52-B11D-57A309E5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920410-8622-4E3A-8951-1992EF5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5453A-06FA-4030-917F-448EAB0A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F618D-42E7-4725-82D1-3C9C317C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8F3D84-7CEF-40F7-B60E-EACD11D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BB4DC-C740-4250-AEC6-AECFF5D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3281B-6FFB-4E07-A7CD-A5824CC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DA787-FA77-4A21-B690-E604249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A1DC9-99ED-40AB-A45E-6712EDE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78C19-9CDB-41EB-A92F-7BEC2AD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4573D-4331-4518-BA1D-7ABF794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669A82-D856-42CA-BC25-AA694774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0CDE8-9559-4244-908E-9A6BA3F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659DC4-7AF2-46C6-9E84-E7EA3884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11A52-254A-4E53-B8DE-3E2833D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A32E54-D65E-417E-9E99-6E5DA9A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F56ED6-07CA-4412-88D6-C435770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4FC792-0058-461A-AFAE-0627411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D9529-508A-4096-830B-8B28359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CB458-6D36-4CF3-AA37-EF67ED2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12D3E2-288A-443C-9A11-3C4CE5E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C35AD9-B7E8-4DEA-8BF9-BBC0CDA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30C243-8777-4AB1-8E17-0D8E3FE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ABCE8-3686-40F6-9816-1E2827B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CF8AC-FF95-408A-A0F3-7EC4E7C2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B3551B-A7F1-4A48-AC40-15FB79EF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99E7C4-4696-47F9-8ABA-8D913D4B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C3242A-7CC9-4019-BB1A-0AAE03B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C16434-015B-47DD-BF31-EC790960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54AA0-5B10-4256-BE82-14B6536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AE1F68-9EFC-4329-BD77-98344DC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844E4B-CE68-44E1-968A-37D4484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BC4C2-6B3A-4005-9BA7-41C38155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FC5C9E-777C-4DF1-84D7-AC857E1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F66DE8-DD9A-4F4B-82C6-74BB84E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91E4CB-02B8-4732-A5D7-0E53F26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18B20B-112C-47E0-BD91-B0D9D345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CE05BE-5B95-4F57-B52C-27F92CF6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4C8D0B-910B-44FA-9482-3908DB3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AC70F1-AA12-426D-8D1F-FF484EB8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8B92D-118D-4573-8548-9065DC82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897B00-95E0-438C-BAAB-4A9A338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19DC08-9A51-40FA-8ACA-D62E5A5A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D6008-70CB-4C64-9171-2EAE75D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8C05FF-32C4-4BEF-956D-B6D0D68A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D0DC1F-252B-4392-A170-9ED39EE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90D95-2014-470B-8A80-E4BB359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173EB3-A3B5-445D-9F0A-956CE0B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D0B88-CBE0-4326-B815-3E08062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D684C2-EA77-4BF3-AE67-A6BFD02C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9EFD6-5149-434A-8F75-6F075705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50514-7D53-4D3E-938C-AE3BAB0F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CA9311-61BA-44E2-9AEF-A72A22A2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D04240-2BF4-4BFF-B0D4-A78C9723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F1E01-12FD-4404-8AEB-B4AFD703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175907-FDC1-4C09-899B-D689DE0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0817E2-8EB3-484D-82DE-79A6E12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1AD411-A0AF-438D-B2CD-7514490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6FE153-D051-4D56-A595-4B088FD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698B55-E2C0-4612-9726-DE668A7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0BA91F-49E1-40D4-B4F9-F9F6238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DAA53E-7A61-4C12-BEA7-37269C8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B99E2-1753-42A8-8BC9-7C2E3DC80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C86553-4F34-439B-867C-15778FF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0CDD30-4D18-4AB2-A22E-9FC5A738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49555C-0F0C-4698-BC86-B234D4C1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AE1803-7081-4490-9EDD-119C283D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338702-69BE-468A-B440-24276A2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5809F6-C5D1-4213-AA01-10BA127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78DA25-2656-4054-8CC4-8BAC715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083F3F-71B4-485D-8349-43E49B8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2212AE-CB0D-4801-97C9-ED8CC19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A068C3-8ECA-439C-AB74-AA1E534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BFFC1-5EA5-4DD3-9663-69E97072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228D46-50DA-4363-B7A7-0380CFA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17189A-F6B3-4513-AB7C-DA7CBBA4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AEFE93-0FC6-4114-AA75-A0C7E26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75CB95-BAAB-4F21-B0AD-A25F828F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54417-D399-499C-A237-A762A493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0064AF-EC44-4D2E-B560-07A96F3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B5033-2D19-4621-8DA5-5264D93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DB55BD-10D9-40BE-8BAB-0ECD54D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EE987C-8873-4253-ACDF-F73B9440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984633-41B1-4245-B06A-7F5C33C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87063-A114-401B-B1AA-3743D99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65B606-86D5-4EE5-B2C8-3BCF5EEA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39E604-FA39-43AF-80DA-6C96D75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CD400F-BBA1-412D-A542-44F5B94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1B9F2D-92E8-4493-8309-F18FC2F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3ACAD5-B6E5-4B12-B2F1-319D893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073946-3BD0-49FE-8E9F-637BCF8B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6A1C4B-724A-4C73-B68A-3BDC4FD5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F4B8D-5EBA-4453-8613-F3D0090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B762B5-ECBF-49F3-B6E0-FF3E02F8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224B7B-9E84-494F-B7B8-C363E8F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E13C-D69B-45C1-9928-D73BF42A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7AA5E-900B-4D1A-A346-2227EE0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F3C52-175D-455B-BF4F-80AA55A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3C1E43-4848-49D9-A124-6C091B5B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6A916E-A273-46BF-AF99-1F1A872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18BE92-01F3-4BC6-AB86-AD1202F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F6C279-AE67-45D5-9F6F-E031E1E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C1978E-8844-45F0-B4E4-8B9559D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316722-CC1E-4C4B-85C1-A8E2EF37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00F025-FE3E-465E-92CD-6277014A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D01264-D508-452C-8BBE-06266FFF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3F3AFA-1BE5-421C-BD59-7A7C3588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BF718-C8A4-4A97-AB1B-B1037612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048FAB-A49B-4CA7-AAF4-7F528886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418A91-4BEB-4882-9D7D-F5C4A73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84FE20-EA33-4721-9B19-677C82C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6B2E81-F058-417E-B051-0B509CA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12555E-B7C8-4B0F-8725-8F6D164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27853D-E5F9-4DEE-883D-4FA8762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4BDAC9-B476-436E-99BC-1CC0353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7B6D94-F588-43D6-B82D-F6B887B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553DA1-A746-42BA-8E90-CA0E259E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E442BB-C39C-454C-8FEC-89995FCF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BA665-D1CC-4F9F-956A-DCA6E9B7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59247A-84C0-413F-8951-827DFB04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FD31D8-7CDD-456F-B9D1-471FC478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36F98C-1DB5-4C19-98E2-0A869170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E30B2A-9F2E-456A-96E1-5B0D848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8B3264-FE16-446B-A45F-B3E2E87E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E0AC58-7F1F-430A-849C-2302AB4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49078D-FC62-4C01-A9B6-3DD83AF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F25A06-64D8-48E5-9050-D6CE7E8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2A1C9F-A73B-49EF-A1FE-28BCF48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D68D1A-86A0-4805-BEFF-7E75C9D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98504-4A78-46FE-9E59-E0DFABF9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AE2C6F-9170-47BA-BFEB-B5CE8FF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F6260D-24B4-4FB9-BC2F-210D5472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693423-6EA3-4BC6-8F41-67329390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AD392-4173-4BBD-B939-63E781B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B5020-DC5B-4BB4-B4B7-B9D005F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E095E-35C6-4B1B-BBDE-851881B9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64881-F996-400D-AE5B-E356419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F8668-62B8-4409-9EE2-9186D66FE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75B7-4E3D-4B1D-81D5-1A3C83F41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600B-7752-4AAF-8345-FDB54ACD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CC50-C798-44F9-95D1-B030E19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9864-1026-43A2-B340-7293836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79DB-D836-4353-A183-5F07EA7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DAA4-170E-4F69-900F-8841718B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D9BA-1FBF-4041-866E-C38BD442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69912-A431-47CF-A0DF-2B0C5C2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EBBA-28B7-4F8B-8695-EFB7655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F94D-592D-4EB7-B50D-EE2F7BD8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87F6-6F16-4E77-BCC6-D52A93B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CA0E-75DC-46CE-A26F-6B1A9C2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60FF-23BE-45EF-A6E6-A2C577E7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AAF9-21B0-4E7A-9B0D-FD5BF72A7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872E0-F1F9-4A42-BB3E-13C2587BB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A2A4B-817B-4215-AB09-CBDD124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FD097-2CE3-401B-B9D9-FEEB5DD5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1BC53-1011-4821-A65E-6F4F826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1F670-01AA-481D-98AA-B50ABCC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23006-3FDE-4E5F-B81B-EE8D270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7E07D-FCE7-453A-923D-2CD5F2A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ADE89-F9CD-4919-8A1A-04DA61C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4C7CE-2B77-4AFD-A5CA-929F790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8EAE-69F2-4C3D-83FD-47DEEC4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069FD-3EEF-461D-A1EE-8EC2F62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0EF50-6B52-4396-A1B1-2CB754A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18257-0569-4A2C-989F-C4A8A0DAD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D3ACDC-FED3-430C-AFB4-1819A9F54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73852-81C1-4EC4-9626-E443C91E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10152-1726-43DA-BE7E-B50B745E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C3486-FC62-4040-B165-0DB8075D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F2EF4-08D5-4357-8256-1A79C3F7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68294-13E8-4239-AF57-AE54063A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34018-6CB2-413F-88D4-E0F6A7C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815F-728F-4D06-9603-85405B42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966CA-25BB-470E-80B2-8684A0D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3D65D9-AE69-4F5E-B41C-F1AF980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292A94-E7DE-45DF-852F-4C646FFA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CC99B2-5846-4F47-AF71-B3AA897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160A41-05A9-4484-BF64-11DB28E92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6E3EE-2CFF-4355-B187-C6ED2E9D3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0EC3-3789-4192-8926-F2243F6D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55FD-7DE7-4BDE-B2F3-237B090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0D8C-DB3F-420B-BB28-7642920D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A565-44FD-46D6-82DC-75AB2C06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2A83-4331-4D59-A1AF-8E69AA2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B2AD-F5DD-4751-ACD5-2215BE39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8675-0CAA-44AE-9B5C-F6D9760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A4D3-FA94-4571-A844-9A07E2B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DF34B-EBEE-430C-8352-372442A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3858-38A6-45DE-A0BB-512913B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8C01-EDC2-46BA-AD9D-E4F96DEE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4E52-0820-480A-9F86-31E31874C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287D6-87DE-4757-A3E2-B3FB9FF8F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3DE81-FF4D-46F5-98B1-A999B71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779FA-7E85-4A5F-9582-56C1628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338-00CD-44C8-843C-8C2BCDB1CA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C4E-76AE-4911-85B2-1C7F08D8D6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09F-A8A0-4A9B-B56B-60BEB1C811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FC0-049B-418E-AF98-FD27A6FD2F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4FB-63B1-415D-8991-97AA0B5961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289-E217-4DA1-BDE6-1EA47E6965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615-B7FD-4767-9D9D-E800F0FC74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122-8A94-4181-A51D-4A142617AD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F35-4638-4CAF-B9F8-CCE76439CF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123F-C0C8-4275-B2D9-E31F39E4E8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362E-7628-41F3-A7DA-1393A86BA0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1D0-359C-47DC-ACD9-FFDF35CF84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E45-41E1-4CBC-B64E-727A0C204BE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6622-0B51-4FF8-BEEA-27D1081739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4A0-FE81-43F6-A5E2-5C36B2D40C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E15-C4B2-4F55-8818-CCE6D05F4B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D7BE-4A56-407D-A2B7-FB4E2300CE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AA23-C6ED-4C17-9DDB-E7A96F2ECC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CFC0-E03F-406F-8369-14437C25E9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7D7-1EFA-4FD0-933D-EC79501257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578-3D04-45D0-B256-15D33991E2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31D-2226-4A86-9689-2178033F99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7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4559-A886-4ECE-959F-50975DC761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C20-4D5D-48D1-A072-CBB75A5766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D20-A615-4676-BEAD-D8536B8C25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F15-1779-4390-83EE-6CFF994AB7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A67C-FA5D-4F79-9602-ED0DB50A80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D7C-7C69-4089-98B0-E3220F0201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4ACF-586A-4630-B0AF-D33B1B783A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AE2-5A5C-4EFB-88BA-1FB0DBEBD7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FD8-5BB9-42A9-81FE-7A943EA56A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94F-7281-41A6-8445-D065F5D046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E24-20C0-4E98-9CD9-4870158272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ED1-271E-436E-8116-B225F65262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7AF-FD35-4FDF-B4B3-C261CD2226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EF3-FAF3-4012-985D-019524FCD0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5"/>
          <p:cNvSpPr/>
          <p:nvPr/>
        </p:nvSpPr>
        <p:spPr>
          <a:xfrm>
            <a:off x="2968560" y="291132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观 察物 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1489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矩形 1"/>
          <p:cNvSpPr/>
          <p:nvPr/>
        </p:nvSpPr>
        <p:spPr>
          <a:xfrm>
            <a:off x="0" y="1357200"/>
            <a:ext cx="91440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右面的图形里有几个角？哪几个角是直角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在图形里加画一条线段，使它增加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任意多边形 2"/>
          <p:cNvSpPr/>
          <p:nvPr/>
        </p:nvSpPr>
        <p:spPr>
          <a:xfrm>
            <a:off x="7072200" y="2214720"/>
            <a:ext cx="1643040" cy="1143000"/>
          </a:xfrm>
          <a:custGeom>
            <a:avLst/>
            <a:gdLst/>
            <a:ahLst/>
            <a:rect l="l" t="t" r="r" b="b"/>
            <a:pathLst>
              <a:path w="1643074" h="1143008">
                <a:moveTo>
                  <a:pt x="0" y="0"/>
                </a:moveTo>
                <a:lnTo>
                  <a:pt x="1143008" y="0"/>
                </a:lnTo>
                <a:lnTo>
                  <a:pt x="1643074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3"/>
          <p:cNvSpPr/>
          <p:nvPr/>
        </p:nvSpPr>
        <p:spPr>
          <a:xfrm>
            <a:off x="6929280" y="2071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椭圆 4"/>
          <p:cNvSpPr/>
          <p:nvPr/>
        </p:nvSpPr>
        <p:spPr>
          <a:xfrm>
            <a:off x="6929280" y="3214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椭圆 5"/>
          <p:cNvSpPr/>
          <p:nvPr/>
        </p:nvSpPr>
        <p:spPr>
          <a:xfrm>
            <a:off x="8072280" y="2071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椭圆 6"/>
          <p:cNvSpPr/>
          <p:nvPr/>
        </p:nvSpPr>
        <p:spPr>
          <a:xfrm>
            <a:off x="8572680" y="3286080"/>
            <a:ext cx="28548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7"/>
          <p:cNvSpPr/>
          <p:nvPr/>
        </p:nvSpPr>
        <p:spPr>
          <a:xfrm>
            <a:off x="2857680" y="2236680"/>
            <a:ext cx="19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组合 13"/>
          <p:cNvGrpSpPr/>
          <p:nvPr/>
        </p:nvGrpSpPr>
        <p:grpSpPr>
          <a:xfrm>
            <a:off x="5715000" y="2143080"/>
            <a:ext cx="1213920" cy="474840"/>
            <a:chOff x="5715000" y="2143080"/>
            <a:chExt cx="1213920" cy="474840"/>
          </a:xfrm>
        </p:grpSpPr>
        <p:cxnSp>
          <p:nvCxnSpPr>
            <p:cNvPr id="1505" name="直接箭头连接符 9"/>
            <p:cNvCxnSpPr/>
            <p:nvPr/>
          </p:nvCxnSpPr>
          <p:spPr>
            <a:xfrm flipH="1">
              <a:off x="6428520" y="2213280"/>
              <a:ext cx="500760" cy="2149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6" name="矩形 12"/>
            <p:cNvSpPr/>
            <p:nvPr/>
          </p:nvSpPr>
          <p:spPr>
            <a:xfrm>
              <a:off x="5715000" y="2143080"/>
              <a:ext cx="85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直角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组合 14"/>
          <p:cNvGrpSpPr/>
          <p:nvPr/>
        </p:nvGrpSpPr>
        <p:grpSpPr>
          <a:xfrm>
            <a:off x="5715000" y="3214800"/>
            <a:ext cx="1213920" cy="474840"/>
            <a:chOff x="5715000" y="3214800"/>
            <a:chExt cx="1213920" cy="474840"/>
          </a:xfrm>
        </p:grpSpPr>
        <p:cxnSp>
          <p:nvCxnSpPr>
            <p:cNvPr id="1508" name="直接箭头连接符 15"/>
            <p:cNvCxnSpPr/>
            <p:nvPr/>
          </p:nvCxnSpPr>
          <p:spPr>
            <a:xfrm flipH="1">
              <a:off x="6428520" y="3285000"/>
              <a:ext cx="500760" cy="2149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9" name="矩形 16"/>
            <p:cNvSpPr/>
            <p:nvPr/>
          </p:nvSpPr>
          <p:spPr>
            <a:xfrm>
              <a:off x="5715000" y="3214800"/>
              <a:ext cx="85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直角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任意多边形 17"/>
          <p:cNvSpPr/>
          <p:nvPr/>
        </p:nvSpPr>
        <p:spPr>
          <a:xfrm>
            <a:off x="3357720" y="4572000"/>
            <a:ext cx="1643040" cy="1143000"/>
          </a:xfrm>
          <a:custGeom>
            <a:avLst/>
            <a:gdLst/>
            <a:ahLst/>
            <a:rect l="l" t="t" r="r" b="b"/>
            <a:pathLst>
              <a:path w="1643074" h="1143008">
                <a:moveTo>
                  <a:pt x="0" y="0"/>
                </a:moveTo>
                <a:lnTo>
                  <a:pt x="1143008" y="0"/>
                </a:lnTo>
                <a:lnTo>
                  <a:pt x="1643074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直接连接符 19"/>
          <p:cNvSpPr/>
          <p:nvPr/>
        </p:nvSpPr>
        <p:spPr>
          <a:xfrm>
            <a:off x="4471920" y="45720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组合 2"/>
          <p:cNvGrpSpPr/>
          <p:nvPr/>
        </p:nvGrpSpPr>
        <p:grpSpPr>
          <a:xfrm>
            <a:off x="-23760" y="46080"/>
            <a:ext cx="2406600" cy="525600"/>
            <a:chOff x="-23760" y="46080"/>
            <a:chExt cx="2406600" cy="525600"/>
          </a:xfrm>
        </p:grpSpPr>
        <p:pic>
          <p:nvPicPr>
            <p:cNvPr id="1513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80640" y="46080"/>
              <a:ext cx="2302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4" name="组合 4"/>
            <p:cNvGrpSpPr/>
            <p:nvPr/>
          </p:nvGrpSpPr>
          <p:grpSpPr>
            <a:xfrm>
              <a:off x="-23760" y="141120"/>
              <a:ext cx="316440" cy="273960"/>
              <a:chOff x="-23760" y="141120"/>
              <a:chExt cx="316440" cy="273960"/>
            </a:xfrm>
          </p:grpSpPr>
          <p:sp>
            <p:nvSpPr>
              <p:cNvPr id="1515" name="椭圆 52"/>
              <p:cNvSpPr/>
              <p:nvPr/>
            </p:nvSpPr>
            <p:spPr>
              <a:xfrm rot="16200000">
                <a:off x="196920" y="288000"/>
                <a:ext cx="8244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6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" y="284400"/>
                <a:ext cx="190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椭圆 58"/>
              <p:cNvSpPr/>
              <p:nvPr/>
            </p:nvSpPr>
            <p:spPr>
              <a:xfrm rot="16200000">
                <a:off x="196920" y="182160"/>
                <a:ext cx="8244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8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240" y="157320"/>
                <a:ext cx="19044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9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0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1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组合 2"/>
          <p:cNvGrpSpPr/>
          <p:nvPr/>
        </p:nvGrpSpPr>
        <p:grpSpPr>
          <a:xfrm>
            <a:off x="-23760" y="46080"/>
            <a:ext cx="2235240" cy="525600"/>
            <a:chOff x="-23760" y="46080"/>
            <a:chExt cx="2235240" cy="525600"/>
          </a:xfrm>
        </p:grpSpPr>
        <p:pic>
          <p:nvPicPr>
            <p:cNvPr id="152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71280" y="46080"/>
              <a:ext cx="2140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5" name="组合 4"/>
            <p:cNvGrpSpPr/>
            <p:nvPr/>
          </p:nvGrpSpPr>
          <p:grpSpPr>
            <a:xfrm>
              <a:off x="-23760" y="141120"/>
              <a:ext cx="293040" cy="273960"/>
              <a:chOff x="-23760" y="141120"/>
              <a:chExt cx="293040" cy="273960"/>
            </a:xfrm>
          </p:grpSpPr>
          <p:sp>
            <p:nvSpPr>
              <p:cNvPr id="1526" name="椭圆 52"/>
              <p:cNvSpPr/>
              <p:nvPr/>
            </p:nvSpPr>
            <p:spPr>
              <a:xfrm rot="16200000">
                <a:off x="180720" y="281160"/>
                <a:ext cx="76680" cy="10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20" y="284400"/>
                <a:ext cx="17676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椭圆 58"/>
              <p:cNvSpPr/>
              <p:nvPr/>
            </p:nvSpPr>
            <p:spPr>
              <a:xfrm rot="16200000">
                <a:off x="180720" y="182880"/>
                <a:ext cx="76680" cy="10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20" y="157320"/>
                <a:ext cx="17676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4" name="矩形 5"/>
          <p:cNvSpPr/>
          <p:nvPr/>
        </p:nvSpPr>
        <p:spPr>
          <a:xfrm>
            <a:off x="430200" y="849240"/>
            <a:ext cx="7929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以右边的点为顶点，分别画一个锐角、直角和钝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椭圆 3"/>
          <p:cNvSpPr/>
          <p:nvPr/>
        </p:nvSpPr>
        <p:spPr>
          <a:xfrm>
            <a:off x="1787400" y="255744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椭圆 7"/>
          <p:cNvSpPr/>
          <p:nvPr/>
        </p:nvSpPr>
        <p:spPr>
          <a:xfrm>
            <a:off x="3930480" y="255744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直接连接符 10"/>
          <p:cNvSpPr/>
          <p:nvPr/>
        </p:nvSpPr>
        <p:spPr>
          <a:xfrm flipH="1">
            <a:off x="1835280" y="2073240"/>
            <a:ext cx="582480" cy="511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1835280" y="2577240"/>
            <a:ext cx="714240" cy="11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直接连接符 15"/>
          <p:cNvSpPr/>
          <p:nvPr/>
        </p:nvSpPr>
        <p:spPr>
          <a:xfrm>
            <a:off x="3930480" y="1914480"/>
            <a:ext cx="0" cy="65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直接连接符 22"/>
          <p:cNvSpPr/>
          <p:nvPr/>
        </p:nvSpPr>
        <p:spPr>
          <a:xfrm flipH="1">
            <a:off x="3965040" y="2593800"/>
            <a:ext cx="785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椭圆 28"/>
          <p:cNvSpPr/>
          <p:nvPr/>
        </p:nvSpPr>
        <p:spPr>
          <a:xfrm>
            <a:off x="6573960" y="25574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直接连接符 29"/>
          <p:cNvSpPr/>
          <p:nvPr/>
        </p:nvSpPr>
        <p:spPr>
          <a:xfrm>
            <a:off x="6002280" y="1986120"/>
            <a:ext cx="608040" cy="58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30"/>
          <p:cNvSpPr/>
          <p:nvPr/>
        </p:nvSpPr>
        <p:spPr>
          <a:xfrm flipH="1">
            <a:off x="6644880" y="2593800"/>
            <a:ext cx="785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2" descr="D:\我的文档-桌面-收藏夹\桌面\1.tif"/>
          <p:cNvPicPr/>
          <p:nvPr/>
        </p:nvPicPr>
        <p:blipFill>
          <a:blip r:embed="rId1"/>
          <a:stretch/>
        </p:blipFill>
        <p:spPr>
          <a:xfrm>
            <a:off x="1000080" y="1224000"/>
            <a:ext cx="5738760" cy="4133880"/>
          </a:xfrm>
          <a:prstGeom prst="rect">
            <a:avLst/>
          </a:prstGeom>
          <a:ln w="0">
            <a:noFill/>
          </a:ln>
        </p:spPr>
      </p:pic>
      <p:sp>
        <p:nvSpPr>
          <p:cNvPr id="1545" name="直接连接符 3"/>
          <p:cNvSpPr/>
          <p:nvPr/>
        </p:nvSpPr>
        <p:spPr>
          <a:xfrm flipV="1">
            <a:off x="4857840" y="1628640"/>
            <a:ext cx="136980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直接连接符 6"/>
          <p:cNvSpPr/>
          <p:nvPr/>
        </p:nvSpPr>
        <p:spPr>
          <a:xfrm>
            <a:off x="4857120" y="2643120"/>
            <a:ext cx="1428840" cy="207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直接连接符 7"/>
          <p:cNvSpPr/>
          <p:nvPr/>
        </p:nvSpPr>
        <p:spPr>
          <a:xfrm flipV="1">
            <a:off x="4643280" y="2714400"/>
            <a:ext cx="171468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直接连接符 9"/>
          <p:cNvSpPr/>
          <p:nvPr/>
        </p:nvSpPr>
        <p:spPr>
          <a:xfrm flipV="1">
            <a:off x="4572000" y="3933360"/>
            <a:ext cx="1727280" cy="99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19"/>
          <p:cNvSpPr/>
          <p:nvPr/>
        </p:nvSpPr>
        <p:spPr>
          <a:xfrm>
            <a:off x="642960" y="7142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连一连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组合 2"/>
          <p:cNvGrpSpPr/>
          <p:nvPr/>
        </p:nvGrpSpPr>
        <p:grpSpPr>
          <a:xfrm>
            <a:off x="-23760" y="46080"/>
            <a:ext cx="2317680" cy="525600"/>
            <a:chOff x="-23760" y="46080"/>
            <a:chExt cx="2317680" cy="525600"/>
          </a:xfrm>
        </p:grpSpPr>
        <p:pic>
          <p:nvPicPr>
            <p:cNvPr id="1551" name="圆角矩形 47" descr=""/>
            <p:cNvPicPr/>
            <p:nvPr/>
          </p:nvPicPr>
          <p:blipFill>
            <a:blip r:embed="rId2"/>
            <a:stretch/>
          </p:blipFill>
          <p:spPr>
            <a:xfrm>
              <a:off x="75600" y="46080"/>
              <a:ext cx="221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2" name="组合 4"/>
            <p:cNvGrpSpPr/>
            <p:nvPr/>
          </p:nvGrpSpPr>
          <p:grpSpPr>
            <a:xfrm>
              <a:off x="-23760" y="141120"/>
              <a:ext cx="304200" cy="273960"/>
              <a:chOff x="-23760" y="141120"/>
              <a:chExt cx="304200" cy="273960"/>
            </a:xfrm>
          </p:grpSpPr>
          <p:sp>
            <p:nvSpPr>
              <p:cNvPr id="1553" name="椭圆 52"/>
              <p:cNvSpPr/>
              <p:nvPr/>
            </p:nvSpPr>
            <p:spPr>
              <a:xfrm rot="16200000">
                <a:off x="188640" y="284760"/>
                <a:ext cx="79560" cy="10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4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90360" y="284400"/>
                <a:ext cx="18360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5" name="椭圆 58"/>
              <p:cNvSpPr/>
              <p:nvPr/>
            </p:nvSpPr>
            <p:spPr>
              <a:xfrm rot="16200000">
                <a:off x="188640" y="182520"/>
                <a:ext cx="79560" cy="10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6" name="椭圆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90360" y="157320"/>
                <a:ext cx="18360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7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30276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8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072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9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7280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0" name="圆角矩形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4112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1" name="组合 2"/>
          <p:cNvGrpSpPr/>
          <p:nvPr/>
        </p:nvGrpSpPr>
        <p:grpSpPr>
          <a:xfrm>
            <a:off x="-23760" y="46080"/>
            <a:ext cx="2357280" cy="525600"/>
            <a:chOff x="-23760" y="46080"/>
            <a:chExt cx="2357280" cy="525600"/>
          </a:xfrm>
        </p:grpSpPr>
        <p:pic>
          <p:nvPicPr>
            <p:cNvPr id="1562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77760" y="46080"/>
              <a:ext cx="2255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3" name="组合 4"/>
            <p:cNvGrpSpPr/>
            <p:nvPr/>
          </p:nvGrpSpPr>
          <p:grpSpPr>
            <a:xfrm>
              <a:off x="-23760" y="141120"/>
              <a:ext cx="309600" cy="273960"/>
              <a:chOff x="-23760" y="141120"/>
              <a:chExt cx="309600" cy="273960"/>
            </a:xfrm>
          </p:grpSpPr>
          <p:sp>
            <p:nvSpPr>
              <p:cNvPr id="1564" name="椭圆 52"/>
              <p:cNvSpPr/>
              <p:nvPr/>
            </p:nvSpPr>
            <p:spPr>
              <a:xfrm rot="16200000">
                <a:off x="192600" y="286200"/>
                <a:ext cx="81000" cy="1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5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95760" y="284400"/>
                <a:ext cx="1868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椭圆 58"/>
              <p:cNvSpPr/>
              <p:nvPr/>
            </p:nvSpPr>
            <p:spPr>
              <a:xfrm rot="16200000">
                <a:off x="192600" y="182520"/>
                <a:ext cx="81000" cy="1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7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95760" y="157320"/>
                <a:ext cx="18684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8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9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0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1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72" name="Picture 3" descr="D:\我的文档-桌面-收藏夹\桌面\Redocn_2012072114532784.jpg"/>
          <p:cNvPicPr/>
          <p:nvPr/>
        </p:nvPicPr>
        <p:blipFill>
          <a:blip r:embed="rId8"/>
          <a:stretch/>
        </p:blipFill>
        <p:spPr>
          <a:xfrm>
            <a:off x="539640" y="2565360"/>
            <a:ext cx="7542360" cy="2635200"/>
          </a:xfrm>
          <a:prstGeom prst="rect">
            <a:avLst/>
          </a:prstGeom>
          <a:ln w="0">
            <a:noFill/>
          </a:ln>
        </p:spPr>
      </p:pic>
      <p:sp>
        <p:nvSpPr>
          <p:cNvPr id="1573" name="直接连接符 9"/>
          <p:cNvSpPr/>
          <p:nvPr/>
        </p:nvSpPr>
        <p:spPr>
          <a:xfrm flipH="1">
            <a:off x="6300720" y="4005360"/>
            <a:ext cx="928800" cy="714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直接连接符 13"/>
          <p:cNvSpPr/>
          <p:nvPr/>
        </p:nvSpPr>
        <p:spPr>
          <a:xfrm flipH="1">
            <a:off x="6227640" y="3068640"/>
            <a:ext cx="1000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直接连接符 15"/>
          <p:cNvSpPr/>
          <p:nvPr/>
        </p:nvSpPr>
        <p:spPr>
          <a:xfrm flipH="1" flipV="1">
            <a:off x="6372360" y="3933360"/>
            <a:ext cx="1000080" cy="78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9"/>
          <p:cNvSpPr/>
          <p:nvPr/>
        </p:nvSpPr>
        <p:spPr>
          <a:xfrm>
            <a:off x="539640" y="1557360"/>
            <a:ext cx="571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下面场景是谁看到的？连一连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4:00Z</dcterms:created>
  <dc:creator/>
  <dc:description/>
  <dc:language>en-US</dc:language>
  <cp:lastModifiedBy>万润仪器贸易公司</cp:lastModifiedBy>
  <dcterms:modified xsi:type="dcterms:W3CDTF">2020-08-21T00:45:5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